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5.jpeg" ContentType="image/jpeg"/>
  <Override PartName="/ppt/media/image16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8.wmf" ContentType="image/x-wmf"/>
  <Override PartName="/ppt/media/image20.wmf" ContentType="image/x-wmf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51A-1824-4DF9-8D2B-D90DE5F3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2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75F-4C05-4D4D-B3C2-DAEC470E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2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82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9B2-B51E-48AD-BB41-E6A9AD6C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2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82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82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58E-9290-4A21-9F34-D2827DB4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C7DE-8BE7-4626-AE58-FEED0B4E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61EA-C3CB-44E1-8A5A-09387E1A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5748-63C7-4ECC-A7FE-33CBAFF9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082D-7D19-4A74-812B-FB05B18A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8080-A615-491C-AB39-45DB7435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201B-E257-4394-988E-7B4F3A92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82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6071-FA7E-4EA0-8F3D-C01079AA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B74-22A1-4EC2-8B98-567894A5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82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61FA-924A-448D-9A95-A04F1615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82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CDFF-00DB-40AD-AF8D-C08FEB8C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82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0535-862D-4FDD-993B-881C214B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82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82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AD4B-2D94-42BC-9159-2F09BCB2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82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82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8280"/>
            <a:ext cx="264924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BF84-BAFC-4EE5-A34C-58F5729F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531B-BEDC-42A3-A4FE-C3211395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4EF-C855-4184-B655-AA7159E5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F2A-4D7F-483A-933C-CF705B6D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CBC-5EA3-4784-9BDA-D0D1C67A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2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AA5-C9AF-4F36-B4CB-D25BF195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828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DE4-E062-4610-8FC4-A4DE3E96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280"/>
            <a:ext cx="822816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0D4-F0E5-4828-AE9F-22B9BFF1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A0EE39-5AFF-4C4F-96A1-0E21FB93C4C2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11D5A79-8F27-4D46-A9A3-B4935761F7C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04528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124000" y="4508640"/>
            <a:ext cx="66247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имина Оксана Анатоль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 музыки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образительного искусст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У СОШ №1 села Каза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лецкого района Липецкой обла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692280"/>
            <a:ext cx="8820000" cy="295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606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Экологическое воспитание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на уроках искусства (музыки)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как здоровьесберегающая технология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22400" cy="3772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4067280" cy="3003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4118040"/>
            <a:ext cx="4356000" cy="2739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497480" y="3895560"/>
            <a:ext cx="4646520" cy="2962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556000" y="1989000"/>
            <a:ext cx="2879640" cy="2159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217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>
            <a:lum contrast="-12000"/>
          </a:blip>
          <a:stretch/>
        </p:blipFill>
        <p:spPr>
          <a:xfrm>
            <a:off x="2843280" y="0"/>
            <a:ext cx="3097080" cy="1685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012000" y="0"/>
            <a:ext cx="3132000" cy="2211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012000" y="2276640"/>
            <a:ext cx="3132000" cy="2217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6012000" y="4597560"/>
            <a:ext cx="3132000" cy="2260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2916360" y="4595760"/>
            <a:ext cx="3097080" cy="2262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0" y="2852640"/>
            <a:ext cx="2914560" cy="400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492360" y="1700280"/>
            <a:ext cx="20955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95360" y="1981080"/>
            <a:ext cx="3962520" cy="1981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3600360" cy="1857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826920" y="3213000"/>
            <a:ext cx="3600720" cy="1857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5219640" y="765000"/>
            <a:ext cx="3600360" cy="1857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5219640" y="3789360"/>
            <a:ext cx="360036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539640" y="476280"/>
            <a:ext cx="7775640" cy="5470560"/>
            <a:chOff x="539640" y="476280"/>
            <a:chExt cx="7775640" cy="5470560"/>
          </a:xfrm>
        </p:grpSpPr>
        <p:sp>
          <p:nvSpPr>
            <p:cNvPr id="149" name=""/>
            <p:cNvSpPr/>
            <p:nvPr/>
          </p:nvSpPr>
          <p:spPr>
            <a:xfrm>
              <a:off x="539640" y="476280"/>
              <a:ext cx="7775640" cy="54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2280" y="2616120"/>
              <a:ext cx="1523880" cy="237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600" spc="-1" strike="noStrike" u="sng">
                  <a:solidFill>
                    <a:srgbClr val="ff0000"/>
                  </a:solidFill>
                  <a:uFillTx/>
                  <a:latin typeface="Tahoma"/>
                </a:rPr>
                <a:t>Мотивы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потребности, интересы, влечения, установки, идеалы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68440" y="2616120"/>
              <a:ext cx="2592360" cy="28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600" spc="-1" strike="noStrike" u="sng">
                  <a:solidFill>
                    <a:srgbClr val="ff0000"/>
                  </a:solidFill>
                  <a:uFillTx/>
                  <a:latin typeface="Tahoma"/>
                </a:rPr>
                <a:t>Экологическое сознание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чувственное отношение,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представления, суждения, мнения,   воображение, основы мировоззрения, осознание своего места в окружающем мире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65720" y="2616120"/>
              <a:ext cx="2897280" cy="28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600" spc="-1" strike="noStrike" u="sng">
                  <a:solidFill>
                    <a:srgbClr val="ff0000"/>
                  </a:solidFill>
                  <a:uFillTx/>
                  <a:latin typeface="Tahoma"/>
                </a:rPr>
                <a:t>Экологическое поведение и творчество:</a:t>
              </a:r>
              <a:r>
                <a:rPr b="0" lang="ru-RU" sz="16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умение изучать, охранять природу, бережно относиться как к природе, так и к самому себе, творить на уроках искусства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3" name=""/>
            <p:cNvCxnSpPr>
              <a:endCxn id="150" idx="0"/>
            </p:cNvCxnSpPr>
            <p:nvPr/>
          </p:nvCxnSpPr>
          <p:spPr>
            <a:xfrm flipH="1">
              <a:off x="1453680" y="1663560"/>
              <a:ext cx="1985040" cy="951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 flipH="1">
              <a:off x="3894120" y="1665360"/>
              <a:ext cx="611280" cy="9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72080" y="1665360"/>
              <a:ext cx="1219320" cy="9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84640" y="712800"/>
              <a:ext cx="2436840" cy="95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Tahoma"/>
                </a:rPr>
                <a:t>Экологическое воспита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547640" y="907920"/>
            <a:ext cx="6048720" cy="352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3868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3500000"/>
                </a:gradFill>
                <a:latin typeface="Times New Roman"/>
              </a:rPr>
              <a:t>Спасибо за вним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кологическое воспита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процесс целенаправленного развития способности личности к полноценному восприятию и пониманию прекрасного и рационального в природе, которое, наряду с формированием у учащихся научных знаний о  взаимодействии человека, общества и природы, норм и правил в отношении к природе и самому себе, умений и навыков по её изучению и охране, станет основой общей экологической культуры человека, как части его духовной культур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25680" y="3002040"/>
            <a:ext cx="6018120" cy="3003480"/>
            <a:chOff x="1525680" y="3002040"/>
            <a:chExt cx="6018120" cy="3003480"/>
          </a:xfrm>
        </p:grpSpPr>
        <p:sp>
          <p:nvSpPr>
            <p:cNvPr id="86" name=""/>
            <p:cNvSpPr/>
            <p:nvPr/>
          </p:nvSpPr>
          <p:spPr>
            <a:xfrm>
              <a:off x="1525680" y="4203720"/>
              <a:ext cx="1226880" cy="150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 u="sng">
                  <a:solidFill>
                    <a:srgbClr val="ff0000"/>
                  </a:solidFill>
                  <a:uFillTx/>
                  <a:latin typeface="Tahoma"/>
                </a:rPr>
                <a:t>Мотивы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потребности, интересы, влечения, установки, идеалы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76400" y="4203720"/>
              <a:ext cx="2087640" cy="18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 u="sng">
                  <a:solidFill>
                    <a:srgbClr val="ff0000"/>
                  </a:solidFill>
                  <a:uFillTx/>
                  <a:latin typeface="Tahoma"/>
                </a:rPr>
                <a:t>Экологическое сознание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чувственное отношение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представления, суждения, мнения,   воображение, основы мировоззрения, осознание своего места в окружающем мире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10280" y="4203720"/>
              <a:ext cx="2333520" cy="18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 u="sng">
                  <a:solidFill>
                    <a:srgbClr val="ff0000"/>
                  </a:solidFill>
                  <a:uFillTx/>
                  <a:latin typeface="Tahoma"/>
                </a:rPr>
                <a:t>Экологическое поведение и творчество:</a:t>
              </a:r>
              <a:r>
                <a:rPr b="0" lang="ru-RU" sz="1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умение изучать, охранять природу, бережно относиться как к природе, так и к самому себе, творить на уроках искусства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9" name=""/>
            <p:cNvCxnSpPr>
              <a:endCxn id="86" idx="0"/>
            </p:cNvCxnSpPr>
            <p:nvPr/>
          </p:nvCxnSpPr>
          <p:spPr>
            <a:xfrm flipH="1">
              <a:off x="2139480" y="3601800"/>
              <a:ext cx="1597680" cy="600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" name=""/>
            <p:cNvSpPr/>
            <p:nvPr/>
          </p:nvSpPr>
          <p:spPr>
            <a:xfrm flipH="1">
              <a:off x="4103640" y="3603600"/>
              <a:ext cx="493920" cy="5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56160" y="3603600"/>
              <a:ext cx="982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14760" y="3002040"/>
              <a:ext cx="1962000" cy="60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0000"/>
                  </a:solidFill>
                  <a:latin typeface="Tahoma"/>
                </a:rPr>
                <a:t>Экологическое воспита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кусство в своём художественном содержании… делало бессмертными необходимые обществу чувства, необходимый обществу способ реагирования на мир… Эстетическое отношение и чувство, как бдительный маркировщик, отбирает для искусства явления, поступки, чувства, мысли, факты по одному признаку, а именно – соответствуют данные явления сохранению жизнедеятельности или нет, благо или зло для общества они представляют. Эстетическое отношение оказывается  универсальным определителем особой ценности…» для данного обще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. Еремее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Духовная жизнь ребёнка полноценна лишь тогда, когда он живёт в мире игры, сказки, музыки, фантазии, творчества. Без этого он – засушенный цветок… Подмена мысли памятью, яркого восприятия, наблюдения за сущностью явлений заучиванием – большой порок, отупляющий ребёнка»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хомлинск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ецифика уроков искус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457200" y="333360"/>
            <a:ext cx="8228160" cy="5973840"/>
            <a:chOff x="457200" y="333360"/>
            <a:chExt cx="8228160" cy="5973840"/>
          </a:xfrm>
        </p:grpSpPr>
        <p:cxnSp>
          <p:nvCxnSpPr>
            <p:cNvPr id="96" name=""/>
            <p:cNvCxnSpPr/>
            <p:nvPr/>
          </p:nvCxnSpPr>
          <p:spPr>
            <a:xfrm rot="10800000">
              <a:off x="4642560" y="1124640"/>
              <a:ext cx="531000" cy="4860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"/>
            <p:cNvCxnSpPr/>
            <p:nvPr/>
          </p:nvCxnSpPr>
          <p:spPr>
            <a:xfrm flipV="1">
              <a:off x="3995640" y="1051920"/>
              <a:ext cx="642240" cy="4956840"/>
            </a:xfrm>
            <a:prstGeom prst="bentConnector3">
              <a:avLst>
                <a:gd name="adj1" fmla="val 499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"/>
            <p:cNvCxnSpPr>
              <a:stCxn id="99" idx="1"/>
              <a:endCxn id="100" idx="2"/>
            </p:cNvCxnSpPr>
            <p:nvPr/>
          </p:nvCxnSpPr>
          <p:spPr>
            <a:xfrm rot="10800000">
              <a:off x="4625280" y="1051920"/>
              <a:ext cx="532440" cy="4059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"/>
            <p:cNvCxnSpPr>
              <a:stCxn id="102" idx="3"/>
              <a:endCxn id="100" idx="2"/>
            </p:cNvCxnSpPr>
            <p:nvPr/>
          </p:nvCxnSpPr>
          <p:spPr>
            <a:xfrm flipV="1">
              <a:off x="3984480" y="1051920"/>
              <a:ext cx="640800" cy="4059720"/>
            </a:xfrm>
            <a:prstGeom prst="bentConnector3">
              <a:avLst>
                <a:gd name="adj1" fmla="val 499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"/>
            <p:cNvCxnSpPr>
              <a:stCxn id="104" idx="1"/>
              <a:endCxn id="100" idx="2"/>
            </p:cNvCxnSpPr>
            <p:nvPr/>
          </p:nvCxnSpPr>
          <p:spPr>
            <a:xfrm rot="10800000">
              <a:off x="4625280" y="1051920"/>
              <a:ext cx="521280" cy="3178800"/>
            </a:xfrm>
            <a:prstGeom prst="bentConnector3">
              <a:avLst>
                <a:gd name="adj1" fmla="val 499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"/>
            <p:cNvCxnSpPr>
              <a:stCxn id="106" idx="3"/>
              <a:endCxn id="100" idx="2"/>
            </p:cNvCxnSpPr>
            <p:nvPr/>
          </p:nvCxnSpPr>
          <p:spPr>
            <a:xfrm flipV="1">
              <a:off x="3984480" y="1052280"/>
              <a:ext cx="640800" cy="3162960"/>
            </a:xfrm>
            <a:prstGeom prst="bentConnector3">
              <a:avLst>
                <a:gd name="adj1" fmla="val 499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"/>
            <p:cNvCxnSpPr/>
            <p:nvPr/>
          </p:nvCxnSpPr>
          <p:spPr>
            <a:xfrm rot="10800000">
              <a:off x="4642560" y="978840"/>
              <a:ext cx="531000" cy="2316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"/>
            <p:cNvCxnSpPr>
              <a:stCxn id="109" idx="3"/>
              <a:endCxn id="100" idx="2"/>
            </p:cNvCxnSpPr>
            <p:nvPr/>
          </p:nvCxnSpPr>
          <p:spPr>
            <a:xfrm flipV="1">
              <a:off x="3984480" y="1052280"/>
              <a:ext cx="640800" cy="2265840"/>
            </a:xfrm>
            <a:prstGeom prst="bentConnector3">
              <a:avLst>
                <a:gd name="adj1" fmla="val 499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"/>
            <p:cNvCxnSpPr/>
            <p:nvPr/>
          </p:nvCxnSpPr>
          <p:spPr>
            <a:xfrm rot="10800000">
              <a:off x="4642560" y="979560"/>
              <a:ext cx="531000" cy="1435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"/>
            <p:cNvCxnSpPr>
              <a:stCxn id="112" idx="3"/>
              <a:endCxn id="100" idx="2"/>
            </p:cNvCxnSpPr>
            <p:nvPr/>
          </p:nvCxnSpPr>
          <p:spPr>
            <a:xfrm flipV="1">
              <a:off x="3984480" y="1051920"/>
              <a:ext cx="640800" cy="1370520"/>
            </a:xfrm>
            <a:prstGeom prst="bentConnector3">
              <a:avLst>
                <a:gd name="adj1" fmla="val 499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"/>
            <p:cNvCxnSpPr/>
            <p:nvPr/>
          </p:nvCxnSpPr>
          <p:spPr>
            <a:xfrm rot="10800000">
              <a:off x="4642560" y="905760"/>
              <a:ext cx="515160" cy="591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"/>
            <p:cNvCxnSpPr>
              <a:stCxn id="115" idx="3"/>
              <a:endCxn id="100" idx="2"/>
            </p:cNvCxnSpPr>
            <p:nvPr/>
          </p:nvCxnSpPr>
          <p:spPr>
            <a:xfrm flipV="1">
              <a:off x="3984480" y="1052280"/>
              <a:ext cx="640800" cy="473760"/>
            </a:xfrm>
            <a:prstGeom prst="bentConnector3">
              <a:avLst>
                <a:gd name="adj1" fmla="val 499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0" name=""/>
            <p:cNvSpPr/>
            <p:nvPr/>
          </p:nvSpPr>
          <p:spPr>
            <a:xfrm>
              <a:off x="2189160" y="333360"/>
              <a:ext cx="4870440" cy="717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ff0000"/>
                  </a:solidFill>
                  <a:latin typeface="Arial"/>
                </a:rPr>
                <a:t>Взаимодействие специалистов при формировании основных функций, умений и навыко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1230480"/>
              <a:ext cx="3525840" cy="595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луховые функц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59520" y="1230480"/>
              <a:ext cx="3525840" cy="68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логопед, учитель начальных классов,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учитель физкультуры,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учитель музык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2125800"/>
              <a:ext cx="3525840" cy="595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Зрительно-пространственные функц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59520" y="2125800"/>
              <a:ext cx="3525840" cy="725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логопед, учитель начальных классов,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учитель физкультуры,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учитель музык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" y="3022560"/>
              <a:ext cx="3525840" cy="595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Двигательные функц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59520" y="3022560"/>
              <a:ext cx="3525840" cy="692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логопед, учитель начальных классов,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учитель физкультуры,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учитель музык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3917880"/>
              <a:ext cx="3525840" cy="595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Устная реч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48360" y="3933720"/>
              <a:ext cx="3525840" cy="596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логопед, учитель начальных классов,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учитель музык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815000"/>
              <a:ext cx="3525840" cy="595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ыслительная деятельно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59520" y="4815000"/>
              <a:ext cx="3525840" cy="595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логопед, учитель начальных классов,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сихолог,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учитель музык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5711760"/>
              <a:ext cx="3525840" cy="595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Эмоционально-личностные особенности поведе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59520" y="5516640"/>
              <a:ext cx="3525840" cy="790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логопед, учитель начальных классов,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учитель физкультуры,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учитель музык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3004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ограмма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Эколого-художественное воспитание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413000"/>
          <a:ext cx="8229600" cy="5184720"/>
        </p:xfrm>
        <a:graphic>
          <a:graphicData uri="http://schemas.openxmlformats.org/drawingml/2006/table">
            <a:tbl>
              <a:tblPr/>
              <a:tblGrid>
                <a:gridCol w="4351320"/>
                <a:gridCol w="3878280"/>
              </a:tblGrid>
              <a:tr h="323280"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водимые понятия экологи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558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клас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О чём говорит музыка» (7часо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рода – источник вдохновения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вая и неживая природ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клас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Развитие музыки» (10 часо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рода – герой музыкальных произведений.  Изменения в природе – развитие в музык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560"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клас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узыка моего народа» (16 часо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ежду музыкой моего народа и музыкой других народов мира нет непереходимых границ» (18 часов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ловек – член биосистемы. Годовые ритмы. Альтруиз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ямое и косвенное воздействие человека на природу. Климат. Адаптация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ловек и биосфер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клас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узыка и изобразительное искусство» (18 часо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овые изменения в природе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пространение морей и океанов. Комфортная и агрессивная сред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класс.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В чём сила музыки?» (18 час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оведники и заказник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клас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узыкальный образ» (16 часо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банизация. Промышленность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фортная и агрессивная сред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клас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Лёгкая» и «серьёзная» музыка (7 час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грация населе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ический прогрес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дагогические технолог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налитико-синтетической 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 уточнению экологических знаний на уроках искусства</a:t>
            </a:r>
            <a:br>
              <a:rPr sz="2000"/>
            </a:b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8360" y="1413000"/>
          <a:ext cx="8229600" cy="5214960"/>
        </p:xfrm>
        <a:graphic>
          <a:graphicData uri="http://schemas.openxmlformats.org/drawingml/2006/table">
            <a:tbl>
              <a:tblPr/>
              <a:tblGrid>
                <a:gridCol w="1662120"/>
                <a:gridCol w="2905200"/>
                <a:gridCol w="1584360"/>
                <a:gridCol w="2077920"/>
              </a:tblGrid>
              <a:tr h="458640">
                <a:tc>
                  <a:txBody>
                    <a:bodyPr lIns="90000" rIns="90000" tIns="543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евой компонен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тельный компонен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ссуальный компонен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ивный компонен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040">
                <a:tc rowSpan="4"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ffffff"/>
                        </a:buClr>
                        <a:buSzPct val="65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экологических представлений на уроках искусств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ffffff"/>
                        </a:buClr>
                        <a:buSzPct val="65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крытие ценности смысловых аспектов приро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класс.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О чём говорит музыка» (7час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О чём говорит искусство» (10 часов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класс.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Развитие музыки» (10 часов)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И снова осень к нам пришла» (9 часов)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Искусство вокруг нас» (34 часа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класс. 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Отношение к миру природы. Анимализм. Пейзаж»  (7 часов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седы о музыке, содержании песен, изобразительном искусств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ведение и активное применение  необходимых и возможных экологических поняти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 и оценка явлений окружающего мира с позиций взаимодействия науки и искусств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поставление и эмоциональная оценка объектов природы и объектов, созданных людьм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очнение и эмоциональное закрепление понятий: «Природа – источник вдохновения,  герой музыки и живописи»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Изменения в природе – развитие в музыке», «Экологические факторы (свет, тепло, ветер)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Антропогенное воздействие»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клас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Ценности повседневной жизни» (34 час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Устойчивое развити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клас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узыкальный образ» (16 часов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класс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Лёгкая» и «серьёзная» музыка (7 часов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Урбанизац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Промышленность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грация насел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ический прогрес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клас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Архитектура и монументальные виды искусства» (34 часа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Антропогенные ландшафты»,«Урбанизация»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Агроэкосистем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Комфортная и враждебная среда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дагогические технологии осуществления интеграц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едметов естественного и эстетического цикла обучения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9640" y="1557360"/>
          <a:ext cx="8229600" cy="4876920"/>
        </p:xfrm>
        <a:graphic>
          <a:graphicData uri="http://schemas.openxmlformats.org/drawingml/2006/table">
            <a:tbl>
              <a:tblPr/>
              <a:tblGrid>
                <a:gridCol w="1764000"/>
                <a:gridCol w="2904840"/>
                <a:gridCol w="1501920"/>
                <a:gridCol w="2058840"/>
              </a:tblGrid>
              <a:tr h="520560"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евой компонен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тельный компонен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ссуальный компонен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ивный компонен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636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ffffff"/>
                        </a:buClr>
                        <a:buSzPct val="65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ние мира во взаимодействии всех его сторон и себя в этом мир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ffffff"/>
                        </a:buClr>
                        <a:buSzPct val="65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знание роли искусства в формировании отношения человека к окружающему мир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класс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Искусство вокруг нас» (34 часа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класс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Каждый народ – художник» (34 часа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узыка моего народа» (16 часо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ежду музыкой моего народа и музыкой других народов мира нет непереходимых границ» (18 часов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клас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узыка и изобразительное искусство» (18 часо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Отношение к миру природы. Анимализм. Пейзаж»  (7 часов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клас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коративно-прикладное искусство в жизни человека» (34 час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седы о музыке, содержании песен, изобразительном искусстве с использованием данных биологии, географии, физики, экологии, истории и акцентированием внимания учащихся на данном феномен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знание учащимися сложности межпредметных связей в современном мир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знание важности природных условий жизни человека при формировании его взглядов на окружающий мир, интонационного и образного языка искусства как средства национального и личного самовыраже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знание хрупкости и ранимости природы и необходимости её защиты и охран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дагогические условия использования системы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наний и умений,  направленной на эмоционально-образную характеристику объектов природ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68360" y="1484280"/>
          <a:ext cx="8229600" cy="5114880"/>
        </p:xfrm>
        <a:graphic>
          <a:graphicData uri="http://schemas.openxmlformats.org/drawingml/2006/table">
            <a:tbl>
              <a:tblPr/>
              <a:tblGrid>
                <a:gridCol w="1754280"/>
                <a:gridCol w="2887560"/>
                <a:gridCol w="1495440"/>
                <a:gridCol w="2092320"/>
              </a:tblGrid>
              <a:tr h="458640">
                <a:tc>
                  <a:txBody>
                    <a:bodyPr lIns="90000" rIns="90000" tIns="543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евой компонен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тельный компонен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ссуальный компонен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ивный компонен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624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buClr>
                          <a:srgbClr val="ffffff"/>
                        </a:buClr>
                        <a:buSzPct val="65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комство с базовыми понятиями музыки и изобразительного искусств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ffffff"/>
                        </a:buClr>
                        <a:buSzPct val="65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умения слушать, анализировать и исполнять музык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ffffff"/>
                        </a:buClr>
                        <a:buSzPct val="65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ирование и совершенствование графических и живописных умений и навык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класс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Реальность и фантазия» (7 часов).  «Как говорит искусство» (9 часов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класс.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Развитие музыки» (10 часов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класс.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узыка моего народа» (16 ч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ежду музыкой моего народа и музыкой других народов мира нет непереходимых границ» (18 часов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Каждый народ – художник» (34 часа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клас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В чём сила музыки?» (18 часов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клас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узыкальный образ» (16 часов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клас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Лёгкая» и «серьёзная» музыка (7 часов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клас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Отношение к миру природы. Анимализм. Пейзаж»  (7 часов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клас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Ценности повседневной жизни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клас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коративно-прикладное искусство в жизни человека» (34 час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кально-интонационные упражн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стическое интонировани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ушание музыки  и анализ  средств выразительности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афические и живописные упражн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 за объектами приро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рисовки с натур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воение основ композиции и перспектив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воение языка декоративно- прикладного искусства и народных промысл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моциональное и осмысленное освоение приёмов работы карандашом и красками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знание взаимосвязи между объектами окружающего мира и набором выразительных средств и приёмов, используемых композитором (художником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ное использование полученных пониманий, умений и навыков в собственной творческой деятельност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ние проводилось на баз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У СОШ №1 и МДОУ детского сада «Тополёк» села Казаки Елецкого района Липецкой обла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рамках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ластной экспериментальной площадк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«Преемственность экологического воспитания и образования: детский сад – школа – учреждения дополнительного образования» в 2000-2005 годах. В исследовании приняло участие 180 учащих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ктическая значим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 разработанная программа поможет учителям общеобразовательной школы более эффективно осуществлять экологическое воспитание школьников не только на уроках естественно-научного цикла, но и на уроках искус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9:50:56Z</dcterms:created>
  <dc:creator>Виктор</dc:creator>
  <dc:description/>
  <dc:language>en-US</dc:language>
  <cp:lastModifiedBy/>
  <dcterms:modified xsi:type="dcterms:W3CDTF">2013-01-17T20:22:50Z</dcterms:modified>
  <cp:revision>6</cp:revision>
  <dc:subject/>
  <dc:title>Слайд 1</dc:title>
</cp:coreProperties>
</file>